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AE9-C266-4D72-9342-DBB3421A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30E-4BA2-463A-B92B-05033845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025-DCFC-44FC-B155-A69586B6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E52-DA03-45CF-9472-3A9E8BBF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EC6-3D56-4CD9-B1EE-999FA80E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227-2460-4563-BD53-71014A7F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036-3E8B-41EF-8D7D-A951328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649-C5F7-416C-BE17-73D7368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F9D-F43E-4194-A69A-1E3BB63E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33D-5AB3-4B30-BC0A-B957F8F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074-F86A-4170-8498-5B09466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654-2218-4554-AE5C-BB53300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D060-A80C-4C29-900A-DC14A5BF3F0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gǒu? Búshì. Zhè  shì māo </a:t>
            </a:r>
            <a:br>
              <a:rPr sz="3600"/>
            </a:b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这  是不是 狗？不是 这 是  猫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5" descr="C:\Documents and Settings\lsabey\Local Settings\Temporary Internet Files\Content.IE5\YSZGR4KJ\MPj04223130000[1].jpg"/>
          <p:cNvPicPr/>
          <p:nvPr/>
        </p:nvPicPr>
        <p:blipFill>
          <a:blip r:embed="rId1"/>
          <a:stretch/>
        </p:blipFill>
        <p:spPr>
          <a:xfrm>
            <a:off x="1600200" y="1981080"/>
            <a:ext cx="571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māo? Búshì. Zhè  shì gǒu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这  是不是 猫？ 不是。 这 是  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猫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Documents and Settings\lsabey\Local Settings\Temporary Internet Files\Content.IE5\YSZGR4KJ\MPj04410490000[1].jpg"/>
          <p:cNvPicPr/>
          <p:nvPr/>
        </p:nvPicPr>
        <p:blipFill>
          <a:blip r:embed="rId1"/>
          <a:stretch/>
        </p:blipFill>
        <p:spPr>
          <a:xfrm>
            <a:off x="2666880" y="1730520"/>
            <a:ext cx="3886200" cy="383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niú? Búshì. Zhè  shì mǎ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  牛？ 不是。这 是  猫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lsabey\Local Settings\Temporary Internet Files\Content.IE5\GBG05ZIE\MPj04064980000[1]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3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mǎ? Búshì. Zhè  shì niú.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  马？ 不是。这 是  牛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3124080" y="1676520"/>
            <a:ext cx="302904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yáng? Búshì.  Zhèshì jī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羊    ？不是。这 是鸡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C:\Documents and Settings\lsabey\Local Settings\Temporary Internet Files\Content.IE5\YSZGR4KJ\MCj04413950000[1].wmf"/>
          <p:cNvPicPr/>
          <p:nvPr/>
        </p:nvPicPr>
        <p:blipFill>
          <a:blip r:embed="rId1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zhū? Búshì.  Zhèsh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iǎo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是不是    猪？ 不是。这 是 鸡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lsabey\Local Settings\Temporary Internet Files\Content.IE5\YSZGR4KJ\MPj04329500000[1].jpg"/>
          <p:cNvPicPr/>
          <p:nvPr/>
        </p:nvPicPr>
        <p:blipFill>
          <a:blip r:embed="rId1"/>
          <a:stretch/>
        </p:blipFill>
        <p:spPr>
          <a:xfrm>
            <a:off x="1371600" y="172872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jī?    Búshì.  Zhèshì  yáng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是不是  鸡？ 不是。这 是     羊。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Documents and Settings\lsabey\Local Settings\Temporary Internet Files\Content.IE5\Q1HN1WZ2\MPj04393170000[1].jpg"/>
          <p:cNvPicPr/>
          <p:nvPr/>
        </p:nvPicPr>
        <p:blipFill>
          <a:blip r:embed="rId1"/>
          <a:stretch/>
        </p:blipFill>
        <p:spPr>
          <a:xfrm>
            <a:off x="30654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niǎo? Búshì.  Zhèsh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ū.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  鸟？ 不是。   这 是 猪。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Content Placeholder 3" descr="C:\Documents and Settings\lsabey\Local Settings\Temporary Internet Files\Content.IE5\YSZGR4KJ\MPj02278080000[1].jpg"/>
          <p:cNvPicPr/>
          <p:nvPr/>
        </p:nvPicPr>
        <p:blipFill>
          <a:blip r:embed="rId1"/>
          <a:stretch/>
        </p:blipFill>
        <p:spPr>
          <a:xfrm>
            <a:off x="1676520" y="1828800"/>
            <a:ext cx="5805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0:35Z</dcterms:created>
  <dc:creator>itsuser</dc:creator>
  <dc:description/>
  <dc:language>en-US</dc:language>
  <cp:lastModifiedBy>itsuser</cp:lastModifiedBy>
  <dcterms:modified xsi:type="dcterms:W3CDTF">2009-05-26T16:39:43Z</dcterms:modified>
  <cp:revision>858</cp:revision>
  <dc:subject/>
  <dc:title>Gou3, GO fetch</dc:title>
</cp:coreProperties>
</file>